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84400" cy="69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5258880" y="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2905200" y="520200"/>
            <a:ext cx="3473280" cy="260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659772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25888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A245-CF76-4C26-9A2D-D74ECD3BF0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013D-CE3D-446C-8F4F-64E29CD106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6280-A57B-4E5A-9644-6484053EB2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B76F-3583-402D-8886-9E7D61C77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4004-563D-42F1-9C8E-6555F018B8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B921-3B1E-48C3-A854-D415EB5F0E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4625-2A7D-496A-B64C-82F3A286FC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F4B7-9E7E-4CFC-AF5A-F80F900A8A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D75A-CE3E-4E6F-9C16-87300DD9D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E03C-28FC-444D-B731-72FEE705A0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5DE0-C6A9-415B-B2AF-104B84882D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5859-AC9E-49D9-B812-06B6D822F8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DA37-819B-4731-B61B-986CC4435F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DCAF-AEE8-4B1E-ADBE-316E5DB56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0F70-59AB-4716-8E0A-4B3EC3525C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ypyramid.gov/professionals/food_tracking_wksh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at and Be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o lean on protei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ats and beans give you protein to grow strong muscles and improve brain func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imit your meats to lean beef, chicken, and pork – you can get a lot of fat with me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5 ounces of protein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scretionary Calori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xtras for luxury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re discretionary calories?  Foods you would like to have that don’t fit in any of the other categories, or are above the recommended amounts – like birthday cake, ice cream, or cand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these foods to NO MORE than 150 calories a meal or snack – make wise choi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hysical Activity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per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physical activity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moderate vs. vigorous activit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licit class feedback for examples of moderate and vigorous activitie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ncourage children to use the MyPyramid Worksheet, for a week, and to eat their favorite foods in each group to meet their daily requiremen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wnload the worksheet 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MyPyramid Worksheet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their findings at the end of the week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might each child eat more healthfully?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20" descr=""/>
          <p:cNvPicPr/>
          <p:nvPr/>
        </p:nvPicPr>
        <p:blipFill>
          <a:blip r:embed="rId2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marize the health benefits of each food group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search on any new finding about food and health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inue keeping a food diary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of physical activity every da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e will be learning about the relationship between good nutrition and healt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8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hart 3" descr=""/>
          <p:cNvPicPr/>
          <p:nvPr/>
        </p:nvPicPr>
        <p:blipFill>
          <a:blip r:embed="rId1"/>
          <a:stretch/>
        </p:blipFill>
        <p:spPr>
          <a:xfrm>
            <a:off x="1292400" y="1146240"/>
            <a:ext cx="632772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i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ke half of your grains who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me examples of grains are: oatmeal, wheat, rye, and barle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ole grain wheat bread is better for you than white brea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ereals are grains, like Cheerios, Mini-Wheats, and Bran Flak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should have  6 servings of grain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getabl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ary your veggi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egetables include carrots, broccoli, beans, peppers, lettuce, and tomato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need green, orange, and red – vary your colors for the best balance of vitamins and nutrien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2½ cups of vegetable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ruit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cus on frui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contain a wide variety of vitami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like pineapples, apples, oranges, peaches, apricots, and pears are readily availab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esh is best, but canned or frozen are fine out of seas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1½ cups of fruit every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il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now your fa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ils and fats include fried food, butter or margarine, salad dressings, and milkfat in milk and chee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your fat intake, as it is linked to blood vessel disease and heart attacks, and builds up in your body over tim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no more than 3 serving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ilk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et your calcium rich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rich foods include milk and chees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builds strong bones and teeth, and helps your muscles become strong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3 cups of milk or cheese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5:18:51Z</dcterms:created>
  <dc:creator>Ector County ISD Employee</dc:creator>
  <dc:description/>
  <dc:language>en-US</dc:language>
  <cp:lastModifiedBy>RK</cp:lastModifiedBy>
  <dcterms:modified xsi:type="dcterms:W3CDTF">2015-12-11T14:27:39Z</dcterms:modified>
  <cp:revision>44</cp:revision>
  <dc:subject/>
  <dc:title>th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